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8D6-6583-406E-86BC-DB98C5883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56F-C465-45EB-8F0D-9481636A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109-D28B-4C92-825A-7B4C5956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609-3B38-4C14-9559-A78C9447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405-D6A0-4EEE-B9A3-F560386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716-1FFE-458C-83D9-F392B2A7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E85-6264-4121-8EBF-9771C658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E7B-54FA-4EB1-BE70-2EA4FAA5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494-DECA-40E6-97FE-5979502E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4E1-0A10-483B-B353-6A73BA28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C2-9C2A-4587-AC17-DDE9198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C97-C710-4961-A225-AAF53B5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F04-D4CF-4912-B37A-970EBF4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B15-38E3-4E5D-BA67-3905A5FC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&amp;ENewsSalaryReport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2209680"/>
            <a:ext cx="5867280" cy="2605320"/>
            <a:chOff x="2133720" y="2209680"/>
            <a:chExt cx="5867280" cy="26053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133720" y="2209680"/>
              <a:ext cx="3473280" cy="26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095880" y="2666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pillary Tube-Like Structur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thin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04920" y="1295280"/>
            <a:ext cx="2590200" cy="5227560"/>
            <a:chOff x="304920" y="1295280"/>
            <a:chExt cx="2590200" cy="52275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37320" y="4925520"/>
              <a:ext cx="2522880" cy="15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345960" y="1295280"/>
              <a:ext cx="2505240" cy="8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324360" y="2172240"/>
              <a:ext cx="25484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304920" y="3382200"/>
              <a:ext cx="259020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98040" y="195660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8040" y="312336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99840" y="466812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505320" y="1981080"/>
            <a:ext cx="48258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1960" y="1278000"/>
            <a:ext cx="7969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are NOT Chemists or Biolog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mical Engineering earn on average $15,000_x000b_more annually than Chem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is a superb 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School, Law School, MBA, and Ph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 Engineers you may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1219320"/>
            <a:ext cx="7969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ro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cal instruments a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s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erican Institute of Chemical Engineers (A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racticing Chemical Engineers into 18 di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" y="6001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Chemical Engineering Co-op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280" y="2131920"/>
            <a:ext cx="85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rt their co-op experience at the beginning of their Sophomore year. Among companies participating in the program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39960" y="3047760"/>
            <a:ext cx="350496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 Pla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athon Ashland Petrol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pherd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riz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84520" y="3048120"/>
            <a:ext cx="402768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ter &amp; G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-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P/Am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hm &amp; H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25200" y="1600200"/>
            <a:ext cx="4027320" cy="30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 to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11400" y="1600200"/>
            <a:ext cx="4027320" cy="31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&amp; Energ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" y="38088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320" y="1485720"/>
            <a:ext cx="350532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Electric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ng.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&amp; Propertie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s of  Mas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. Lab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161244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 Lab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esign I &amp;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E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577800"/>
            <a:ext cx="752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irecting Cell Organization and Migration</a:t>
            </a:r>
            <a:br>
              <a:rPr sz="29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ollaboration wi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Chia-Chi Ho (Chemical &amp; Materials Engineering, University of Cincinn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39760" y="1600200"/>
            <a:ext cx="5064480" cy="364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03000" y="5361120"/>
            <a:ext cx="4338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cal Reconstruction of Liver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people.hsc.edu/faculty-staff/edwardd/edsweb01/microscopy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. Devlin, Biology Department Hampden-Sydney Colle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38640" y="2311560"/>
            <a:ext cx="1361880" cy="541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5880" y="2106720"/>
            <a:ext cx="156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nucleus labelled blu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654520" y="3530520"/>
            <a:ext cx="1571760" cy="474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5160" y="3362400"/>
            <a:ext cx="1737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pillaries (sinusoid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cropatterning of Human Microvascular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dothelial Cells with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143000"/>
            <a:ext cx="7391160" cy="5714640"/>
            <a:chOff x="838080" y="1143000"/>
            <a:chExt cx="7391160" cy="57146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465880" y="1143000"/>
              <a:ext cx="2763360" cy="57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838080" y="1143000"/>
              <a:ext cx="3355920" cy="5515200"/>
              <a:chOff x="838080" y="1143000"/>
              <a:chExt cx="3355920" cy="5515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884160" y="1438920"/>
                <a:ext cx="2547360" cy="1121040"/>
                <a:chOff x="884160" y="1438920"/>
                <a:chExt cx="2547360" cy="112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4160" y="1438920"/>
                  <a:ext cx="254736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" name=""/>
                <p:cNvGrpSpPr/>
                <p:nvPr/>
              </p:nvGrpSpPr>
              <p:grpSpPr>
                <a:xfrm>
                  <a:off x="1093320" y="1792080"/>
                  <a:ext cx="2091960" cy="407880"/>
                  <a:chOff x="1093320" y="1792080"/>
                  <a:chExt cx="2091960" cy="40788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234000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02356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707120" y="1792080"/>
                    <a:ext cx="532440" cy="407880"/>
                  </a:xfrm>
                  <a:prstGeom prst="parallelogram">
                    <a:avLst>
                      <a:gd name="adj" fmla="val 9166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39140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65464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09332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1589760" y="2566800"/>
                <a:ext cx="2419920" cy="522000"/>
                <a:chOff x="1589760" y="2566800"/>
                <a:chExt cx="2419920" cy="52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718640" y="2566800"/>
                  <a:ext cx="2291040" cy="5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ndothelial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9760" y="2580480"/>
                  <a:ext cx="180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589760" y="3952440"/>
                <a:ext cx="2301480" cy="500760"/>
                <a:chOff x="1589760" y="3952440"/>
                <a:chExt cx="2301480" cy="500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89760" y="3978000"/>
                  <a:ext cx="180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18640" y="3952440"/>
                  <a:ext cx="2172600" cy="50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itosan so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89760" y="5348520"/>
                <a:ext cx="2604240" cy="569880"/>
                <a:chOff x="1589760" y="5348520"/>
                <a:chExt cx="2604240" cy="569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89760" y="5384520"/>
                  <a:ext cx="1800" cy="20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714320" y="5348520"/>
                  <a:ext cx="247968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broblast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884160" y="2717640"/>
                <a:ext cx="2547000" cy="1121040"/>
                <a:chOff x="884160" y="2717640"/>
                <a:chExt cx="2547000" cy="11210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84160" y="271764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1092600" y="3069000"/>
                  <a:ext cx="2091960" cy="407520"/>
                  <a:chOff x="1092600" y="3069000"/>
                  <a:chExt cx="2091960" cy="40752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33928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02284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706400" y="3069000"/>
                    <a:ext cx="532440" cy="407520"/>
                  </a:xfrm>
                  <a:prstGeom prst="parallelogram">
                    <a:avLst>
                      <a:gd name="adj" fmla="val 9174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39068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65392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09260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325880" y="3067920"/>
                  <a:ext cx="1601280" cy="413280"/>
                  <a:chOff x="1325880" y="3067920"/>
                  <a:chExt cx="1601280" cy="4132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56360" y="3074760"/>
                    <a:ext cx="370800" cy="403920"/>
                    <a:chOff x="2556360" y="3074760"/>
                    <a:chExt cx="370800" cy="40392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7400000">
                      <a:off x="2793600" y="3104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7400000">
                      <a:off x="2703960" y="3192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7400000">
                      <a:off x="2622240" y="327816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rot="17400000">
                      <a:off x="2558520" y="3351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249280" y="3077280"/>
                    <a:ext cx="371160" cy="403920"/>
                    <a:chOff x="2249280" y="3077280"/>
                    <a:chExt cx="371160" cy="4039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17400000">
                      <a:off x="2486880" y="3106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17400000">
                      <a:off x="2396880" y="31950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17400000">
                      <a:off x="2315160" y="32806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7400000">
                      <a:off x="2251440" y="3354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945080" y="3067920"/>
                    <a:ext cx="370800" cy="403920"/>
                    <a:chOff x="1945080" y="3067920"/>
                    <a:chExt cx="370800" cy="4039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rot="17400000">
                      <a:off x="218232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rot="17400000">
                      <a:off x="20926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17400000">
                      <a:off x="20109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rot="17400000">
                      <a:off x="19472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19640" y="3070080"/>
                    <a:ext cx="370800" cy="403920"/>
                    <a:chOff x="1619640" y="3070080"/>
                    <a:chExt cx="370800" cy="4039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17400000">
                      <a:off x="1856880" y="3099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17400000">
                      <a:off x="1767240" y="3187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rot="17400000">
                      <a:off x="1685520" y="3273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7400000">
                      <a:off x="1621800" y="3347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325880" y="3067920"/>
                    <a:ext cx="371160" cy="403920"/>
                    <a:chOff x="1325880" y="3067920"/>
                    <a:chExt cx="371160" cy="4039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rot="17400000">
                      <a:off x="156348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7400000">
                      <a:off x="14734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17400000">
                      <a:off x="13917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rot="17400000">
                      <a:off x="13280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838080" y="4115520"/>
                <a:ext cx="2547720" cy="1121040"/>
                <a:chOff x="838080" y="4115520"/>
                <a:chExt cx="2547720" cy="11210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38080" y="4115520"/>
                  <a:ext cx="2547720" cy="1121040"/>
                  <a:chOff x="838080" y="4115520"/>
                  <a:chExt cx="2547720" cy="11210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38080" y="4115520"/>
                    <a:ext cx="2547720" cy="1121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37254"/>
                        </a:srgbClr>
                      </a:gs>
                      <a:gs pos="100000">
                        <a:srgbClr val="eaeaea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1047240" y="4468680"/>
                    <a:ext cx="2091960" cy="407880"/>
                    <a:chOff x="1047240" y="4468680"/>
                    <a:chExt cx="2091960" cy="40788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2942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9774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661040" y="4468680"/>
                      <a:ext cx="532440" cy="407880"/>
                    </a:xfrm>
                    <a:prstGeom prst="parallelogram">
                      <a:avLst>
                        <a:gd name="adj" fmla="val 9166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134532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60856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04724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1283040" y="4467240"/>
                  <a:ext cx="1602720" cy="416520"/>
                  <a:chOff x="1283040" y="4467240"/>
                  <a:chExt cx="1602720" cy="4165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514240" y="4474080"/>
                    <a:ext cx="371520" cy="407160"/>
                    <a:chOff x="2514240" y="4474080"/>
                    <a:chExt cx="371520" cy="4071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rot="17400000">
                      <a:off x="2751480" y="4504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7400000">
                      <a:off x="2661480" y="45932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7400000">
                      <a:off x="2580120" y="467928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rot="17400000">
                      <a:off x="2516040" y="47541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206800" y="4476600"/>
                    <a:ext cx="371520" cy="407160"/>
                    <a:chOff x="2206800" y="4476600"/>
                    <a:chExt cx="371520" cy="407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rot="17400000">
                      <a:off x="2444040" y="45068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7400000">
                      <a:off x="2354040" y="45957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rot="17400000">
                      <a:off x="2272680" y="46818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17400000">
                      <a:off x="2208600" y="47566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902600" y="4467240"/>
                    <a:ext cx="371520" cy="407160"/>
                    <a:chOff x="1902600" y="4467240"/>
                    <a:chExt cx="371520" cy="407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7400000">
                      <a:off x="213984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17400000">
                      <a:off x="204984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7400000">
                      <a:off x="196848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7400000">
                      <a:off x="190440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1576800" y="4469400"/>
                    <a:ext cx="371520" cy="407160"/>
                    <a:chOff x="1576800" y="4469400"/>
                    <a:chExt cx="371520" cy="40716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rot="17400000">
                      <a:off x="1814040" y="44996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17400000">
                      <a:off x="1724040" y="45885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7400000">
                      <a:off x="1642680" y="46746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17400000">
                      <a:off x="1578600" y="4749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1283040" y="4467240"/>
                    <a:ext cx="371520" cy="407160"/>
                    <a:chOff x="1283040" y="4467240"/>
                    <a:chExt cx="371520" cy="4071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rot="17400000">
                      <a:off x="152028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7400000">
                      <a:off x="143028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rot="17400000">
                      <a:off x="134892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rot="17400000">
                      <a:off x="128484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862200" y="5537160"/>
                <a:ext cx="2547000" cy="1121040"/>
                <a:chOff x="862200" y="5537160"/>
                <a:chExt cx="2547000" cy="11210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2200" y="553716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1070640" y="5891400"/>
                  <a:ext cx="2093400" cy="406080"/>
                  <a:chOff x="1070640" y="5891400"/>
                  <a:chExt cx="2093400" cy="4060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23184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016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84800" y="5891400"/>
                    <a:ext cx="532800" cy="406080"/>
                  </a:xfrm>
                  <a:prstGeom prst="parallelogram">
                    <a:avLst>
                      <a:gd name="adj" fmla="val 92135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36908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63304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07064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724120" y="5908680"/>
                  <a:ext cx="305640" cy="384480"/>
                  <a:chOff x="2724120" y="5908680"/>
                  <a:chExt cx="305640" cy="384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7400000">
                    <a:off x="2718000" y="617868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6600000">
                    <a:off x="2774160" y="610092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7400000">
                    <a:off x="2850840" y="601596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6600000">
                    <a:off x="2904840" y="594360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312560" y="5889240"/>
                  <a:ext cx="1602720" cy="413280"/>
                  <a:chOff x="1312560" y="5889240"/>
                  <a:chExt cx="1602720" cy="41328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544120" y="5896080"/>
                    <a:ext cx="371160" cy="403920"/>
                    <a:chOff x="2544120" y="5896080"/>
                    <a:chExt cx="371160" cy="4039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7400000">
                      <a:off x="2781720" y="5925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400000">
                      <a:off x="2691720" y="6013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7400000">
                      <a:off x="2610000" y="6099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rot="17400000">
                      <a:off x="2546280" y="6173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2236680" y="5898600"/>
                    <a:ext cx="371160" cy="403920"/>
                    <a:chOff x="2236680" y="5898600"/>
                    <a:chExt cx="371160" cy="4039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7400000">
                      <a:off x="2474280" y="5928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7400000">
                      <a:off x="2384280" y="60163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7400000">
                      <a:off x="2302560" y="61020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17400000">
                      <a:off x="2238840" y="6175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1932120" y="5889240"/>
                    <a:ext cx="371160" cy="403920"/>
                    <a:chOff x="1932120" y="5889240"/>
                    <a:chExt cx="371160" cy="4039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17400000">
                      <a:off x="216972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17400000">
                      <a:off x="207972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rot="17400000">
                      <a:off x="199800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7400000">
                      <a:off x="193428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606320" y="5891400"/>
                    <a:ext cx="371160" cy="403920"/>
                    <a:chOff x="1606320" y="5891400"/>
                    <a:chExt cx="371160" cy="403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rot="17400000">
                      <a:off x="1843920" y="59209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rot="17400000">
                      <a:off x="1753920" y="6009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rot="17400000">
                      <a:off x="1672200" y="60948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400000">
                      <a:off x="1608480" y="6168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1312560" y="5889240"/>
                    <a:ext cx="371160" cy="403920"/>
                    <a:chOff x="1312560" y="5889240"/>
                    <a:chExt cx="371160" cy="40392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7400000">
                      <a:off x="155016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7400000">
                      <a:off x="146016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7400000">
                      <a:off x="137844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17400000">
                      <a:off x="131472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418480" y="5916240"/>
                  <a:ext cx="305640" cy="384480"/>
                  <a:chOff x="2418480" y="5916240"/>
                  <a:chExt cx="305640" cy="3844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7400000">
                    <a:off x="2412360" y="61862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6600000">
                    <a:off x="2468520" y="61084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7400000">
                    <a:off x="2544840" y="60235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6600000">
                    <a:off x="2599200" y="59511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1790640" y="5912640"/>
                  <a:ext cx="306360" cy="383760"/>
                  <a:chOff x="1790640" y="5912640"/>
                  <a:chExt cx="306360" cy="383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17400000">
                    <a:off x="1785240" y="6181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6600000">
                    <a:off x="1841760" y="6104520"/>
                    <a:ext cx="1303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7400000">
                    <a:off x="1918080" y="6019920"/>
                    <a:ext cx="13104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6600000">
                    <a:off x="1972080" y="5947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091240" y="5928120"/>
                  <a:ext cx="304560" cy="386640"/>
                  <a:chOff x="2091240" y="5928120"/>
                  <a:chExt cx="304560" cy="3866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7400000">
                    <a:off x="2085120" y="619992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6600000">
                    <a:off x="2141280" y="6122160"/>
                    <a:ext cx="131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7400000">
                    <a:off x="2216520" y="6036480"/>
                    <a:ext cx="132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6600000">
                    <a:off x="2270520" y="596376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463400" y="5919120"/>
                  <a:ext cx="305640" cy="384480"/>
                  <a:chOff x="1463400" y="5919120"/>
                  <a:chExt cx="305640" cy="384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7400000">
                    <a:off x="1457280" y="618912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6600000">
                    <a:off x="1513440" y="611136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7400000">
                    <a:off x="1589760" y="602640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6600000">
                    <a:off x="1644120" y="5954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185840" y="5900040"/>
                  <a:ext cx="305640" cy="384480"/>
                  <a:chOff x="1185840" y="5900040"/>
                  <a:chExt cx="305640" cy="384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rot="17400000">
                    <a:off x="1179720" y="6170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6600000">
                    <a:off x="1235880" y="60922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7400000">
                    <a:off x="1312200" y="60073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6600000">
                    <a:off x="1366560" y="59349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2493000" y="11430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-resistan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olyelectroly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85680" y="1548720"/>
                <a:ext cx="1260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24:43Z</dcterms:created>
  <dc:creator>Carlos Co</dc:creator>
  <dc:description/>
  <dc:language>en-US</dc:language>
  <cp:lastModifiedBy>Carlos Co</cp:lastModifiedBy>
  <dcterms:modified xsi:type="dcterms:W3CDTF">2006-09-26T16:47:51Z</dcterms:modified>
  <cp:revision>20</cp:revision>
  <dc:subject/>
  <dc:title>Slide 1</dc:title>
</cp:coreProperties>
</file>